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6.gif" ContentType="image/gif"/>
  <Override PartName="/ppt/media/image13.png" ContentType="image/png"/>
  <Override PartName="/ppt/media/image8.png" ContentType="image/png"/>
  <Override PartName="/ppt/media/image12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10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1032-46CE-435C-9BF9-8BC7D660C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0D5B-E8AE-4B4F-9947-C7A7E0155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7E47-264E-4E54-B158-46A72A216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B3EF-3D71-4395-9972-860B1F913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8FD68-484B-4EAD-AC99-DF5331F40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A5273-D628-4F44-9919-D78AA45DD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B8E88-BFAB-4785-BBB2-703E82CB3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CE0E0-B0CA-4D62-A33A-5E9EE34FD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285DC-5B2F-4D96-873B-62411C0F3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E1970-CB29-4BE2-941D-E491895B1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7FAFE-9E4E-4FB7-A8A9-A18A167D0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F993-F133-4CC1-8B73-AA0309ABE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05312-EF6E-4E22-AEBF-7C9C9DC17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46DD5-8D0D-44A9-B2D2-7C64FA7CA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1B69A-6E69-4882-8237-C62537E12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C534E-D3B4-471D-AA00-54ECAD03B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4FC13-A2C6-4643-9FF8-29F231421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0A7E1C-3DD9-400C-9B47-592E50DCB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B5F46F-ECCE-46D6-AA7E-39F423B80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133C46-C56E-4F4A-804B-0E9D3B44D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6398BB-36CA-4287-B696-385BB90A1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D1B4F7-171A-4A80-8C24-2B028A6DE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7C18-44B5-4FB5-800B-11B2EAA7A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DE4499-0A3B-4688-80E9-B02835A9B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127DBC-7760-4816-9A06-12448D861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7F47EF-C84B-4DC2-BB69-17407155D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1A6708-F988-44E4-B9E1-1640A916B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A66185-ECE0-4342-A92A-E8594BA49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9DBA92-124C-4B00-B83F-8474DC9A0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B1B5FE-9E70-48EF-BF6F-E306D6AA1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C5C5E1-E46B-4B48-88D6-0E754E59B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E4F797-D1FC-47EC-A53A-F35E264EA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F1D961-02DA-4779-A86A-086E3DA65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44E7-B9B7-42EA-976D-86BE731B9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265E3F-E524-461F-A0A1-D8916CFD3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D5C38F-8B8C-421C-9467-2973EE4EE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45409B-CC66-48C1-B991-98D35687B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B5E6DB-61A6-4231-9FF2-4081D771A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0C1D01-BACC-4644-A4C7-8647DCB11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E6E7D2-DE7D-4F99-9B1F-5683979C4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80958C-7615-49B2-B8B6-27D17BB9A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43FA25-A6D5-4F1E-B33B-240AB9C7A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5A74C9-8FEA-411B-969A-F21D4ACCB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2E26DD-96FB-4E9D-8E12-F48D1E4E8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9DC4-C414-4C0F-927F-21222FAB1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40BD29-A6F7-445F-9E38-785E8922B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4BB262-6CD0-49E9-AB62-E1DDE8DC8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C9ED8D-B7C9-448A-B2A3-E2D239406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FDEA42-2265-4B1A-9251-ACE1C5461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9B8A6F-473C-4B46-8775-7DF879CCB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D19160-9069-44B1-9719-CB9CCCEC4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C5893A-0660-41DB-8128-AE89ED48A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148464-A71A-4F1B-BE7F-D9FCC7B64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25E9D3-014A-41FF-B35C-E1FF257E5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653B9B-3F39-42E7-A866-6D2D79C73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6A5C-6A74-4600-B780-2FEE595B6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EFF5F5-B3AA-4165-A65D-DF2F6E1A1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FAB6B6-E3BD-487C-B88D-9127E60CE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0FBF91-FBCB-4EDA-8AD6-242FCB65E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A2E1B6-1DD6-4B3A-88A9-9C8C4F45C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A47EE8-A65E-416A-990F-10F5A5B95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0E3743-1CEC-4964-B7DA-17F4F6119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53FFD6-FC1A-4C90-BEB4-EB5E87AAE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FF011A-2A86-46DB-B861-AA6A0333D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1607ED-074D-431B-A597-606B3A055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CA46A8-8FF3-4E7E-AE89-320469C40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929B-3F70-40D6-A375-F8CE11A57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74054E-48D0-4A6A-9445-67EE4D0B9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87E6CB-26C7-4DFA-A5CC-E5D92191B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52351D-D8DF-4937-99C7-E916C2AD9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D9E0AE-30BC-45BF-A53A-CF0B9D36F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19EAF5-6F20-4A10-A7D2-18EC5F5DE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CC79E7-8A37-4FF4-8CDB-DAA2257FD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E18105-5CE8-4031-8FC6-4199FECF5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51825F-F762-4836-AF73-FD095EF86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3F3AED-A743-430D-9130-31B2B0A8E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D721FA-8DC8-4DB1-9188-05E7FEE95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784C-D10B-4811-9D7D-9F6A454D3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457F5B-4A9C-48AB-8FD4-62A0228E0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EDA114-3FC9-434D-AD27-13C7BE838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252B08-8BA8-4B11-8E68-E2D58331C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6B7F64-9272-46A0-8B1F-FC03B84B2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2932F5-0FC1-4368-A297-8D1796E50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BB85-7443-4AA9-A6DA-33B661F48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4DF50-D616-4531-940E-9CF7BC4523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Isosceles Triangle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37BB5-44F8-4123-9FE5-106CD12A8E0E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ABB81-F7D4-48EB-9ED3-400AB18D35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ight Triangle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Isosceles Triangle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Straight Connector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Straight Connector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E7F85-0E0E-48F4-8509-6399412816B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C2E01-25ED-46AB-AF1C-3C4B4B5D8F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67437-D190-420A-9CF4-E599E64CD592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C58E8-D3B4-4038-B819-3B3CB8E3B96C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jpeg"/><Relationship Id="rId6" Type="http://schemas.openxmlformats.org/officeDocument/2006/relationships/image" Target="../media/image6.gif"/><Relationship Id="rId7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Title 1" descr=""/>
          <p:cNvPicPr/>
          <p:nvPr/>
        </p:nvPicPr>
        <p:blipFill>
          <a:blip r:embed="rId1"/>
          <a:stretch/>
        </p:blipFill>
        <p:spPr>
          <a:xfrm>
            <a:off x="542880" y="774720"/>
            <a:ext cx="8319960" cy="1766880"/>
          </a:xfrm>
          <a:prstGeom prst="rect">
            <a:avLst/>
          </a:prstGeom>
          <a:ln w="0">
            <a:noFill/>
          </a:ln>
        </p:spPr>
      </p:pic>
      <p:pic>
        <p:nvPicPr>
          <p:cNvPr id="302" name="Subtitle 2" descr=""/>
          <p:cNvPicPr/>
          <p:nvPr/>
        </p:nvPicPr>
        <p:blipFill>
          <a:blip r:embed="rId2"/>
          <a:stretch/>
        </p:blipFill>
        <p:spPr>
          <a:xfrm>
            <a:off x="542880" y="2170080"/>
            <a:ext cx="8163000" cy="183528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2" descr="C:\Program Files\Microsoft Office\MEDIA\CAGCAT10\j0217698.wmf"/>
          <p:cNvPicPr/>
          <p:nvPr/>
        </p:nvPicPr>
        <p:blipFill>
          <a:blip r:embed="rId3"/>
          <a:stretch/>
        </p:blipFill>
        <p:spPr>
          <a:xfrm>
            <a:off x="838080" y="838080"/>
            <a:ext cx="1747800" cy="169416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3" descr="C:\Users\Tasha.Gorman\AppData\Local\Microsoft\Windows\Temporary Internet Files\Content.IE5\VURKP26B\MC900120951[1].wmf"/>
          <p:cNvPicPr/>
          <p:nvPr/>
        </p:nvPicPr>
        <p:blipFill>
          <a:blip r:embed="rId4"/>
          <a:stretch/>
        </p:blipFill>
        <p:spPr>
          <a:xfrm>
            <a:off x="838080" y="3733920"/>
            <a:ext cx="1752840" cy="274320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6" descr="C:\Users\Tasha.Gorman\AppData\Local\Microsoft\Windows\Temporary Internet Files\Content.IE5\QMKF3ZDY\MP900422786[1].jpg"/>
          <p:cNvPicPr/>
          <p:nvPr/>
        </p:nvPicPr>
        <p:blipFill>
          <a:blip r:embed="rId5"/>
          <a:stretch/>
        </p:blipFill>
        <p:spPr>
          <a:xfrm>
            <a:off x="6286680" y="430524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7" descr="C:\Users\Tasha.Gorman\AppData\Local\Microsoft\Windows\Temporary Internet Files\Content.IE5\T4I9C23C\MM900041072[1].gif"/>
          <p:cNvPicPr/>
          <p:nvPr/>
        </p:nvPicPr>
        <p:blipFill>
          <a:blip r:embed="rId6"/>
          <a:stretch/>
        </p:blipFill>
        <p:spPr>
          <a:xfrm>
            <a:off x="3429000" y="2532240"/>
            <a:ext cx="1397160" cy="27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1680" cy="139536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33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Je m’appelle 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Century Gothic"/>
              </a:rPr>
              <a:t>Natasha Gorman. 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 J’ai 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Century Gothic"/>
              </a:rPr>
              <a:t> 37 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ns.  J’habite à 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Century Gothic"/>
              </a:rPr>
              <a:t>Oromocto.  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es parents sont 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Century Gothic"/>
              </a:rPr>
              <a:t>Arthur et Christina.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 Ma couleur préférée c’est le 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Century Gothic"/>
              </a:rPr>
              <a:t>violet.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Title 1" descr=""/>
          <p:cNvPicPr/>
          <p:nvPr/>
        </p:nvPicPr>
        <p:blipFill>
          <a:blip r:embed="rId1"/>
          <a:stretch/>
        </p:blipFill>
        <p:spPr>
          <a:xfrm>
            <a:off x="457200" y="122400"/>
            <a:ext cx="8229600" cy="180972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11" name="Picture 2" descr=""/>
          <p:cNvPicPr/>
          <p:nvPr/>
        </p:nvPicPr>
        <p:blipFill>
          <a:blip r:embed="rId2"/>
          <a:stretch/>
        </p:blipFill>
        <p:spPr>
          <a:xfrm>
            <a:off x="609480" y="1600200"/>
            <a:ext cx="1866960" cy="245736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3" descr=""/>
          <p:cNvPicPr/>
          <p:nvPr/>
        </p:nvPicPr>
        <p:blipFill>
          <a:blip r:embed="rId3"/>
          <a:stretch/>
        </p:blipFill>
        <p:spPr>
          <a:xfrm>
            <a:off x="6705720" y="1666800"/>
            <a:ext cx="1962000" cy="232416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4" descr=""/>
          <p:cNvPicPr/>
          <p:nvPr/>
        </p:nvPicPr>
        <p:blipFill>
          <a:blip r:embed="rId4"/>
          <a:stretch/>
        </p:blipFill>
        <p:spPr>
          <a:xfrm>
            <a:off x="3652920" y="1677960"/>
            <a:ext cx="1838160" cy="247644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5" descr=""/>
          <p:cNvPicPr/>
          <p:nvPr/>
        </p:nvPicPr>
        <p:blipFill>
          <a:blip r:embed="rId5"/>
          <a:stretch/>
        </p:blipFill>
        <p:spPr>
          <a:xfrm>
            <a:off x="1219320" y="4648320"/>
            <a:ext cx="2828880" cy="161928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6" descr=""/>
          <p:cNvPicPr/>
          <p:nvPr/>
        </p:nvPicPr>
        <p:blipFill>
          <a:blip r:embed="rId6"/>
          <a:stretch/>
        </p:blipFill>
        <p:spPr>
          <a:xfrm>
            <a:off x="5638680" y="4229280"/>
            <a:ext cx="185760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Title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43160" indent="-37872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atasha est mon nom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Andrew est mon mari.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Tash est mon sobriquet.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Aime mes fils, Logan et Emery.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Sourire toujours</a:t>
            </a:r>
            <a:r>
              <a:rPr b="0" lang="en-US" sz="36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Hockey est mon sport préferée.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Aime faire le camping en été.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1680" cy="139536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J’aime le couleur violet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J’aime faire le camping avec ma famille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J’aime faire la bicyclette avec ma famille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J’aime regarder les matchs de hockey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J’aime beaucoup le chocolat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1680" cy="139536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457200" y="1882800"/>
            <a:ext cx="82296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1680" cy="139536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33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1680" cy="139536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8T14:32:11Z</dcterms:created>
  <dc:creator>ED18</dc:creator>
  <dc:description/>
  <dc:language>en-US</dc:language>
  <cp:lastModifiedBy>ED18</cp:lastModifiedBy>
  <dcterms:modified xsi:type="dcterms:W3CDTF">2012-09-21T12:47:15Z</dcterms:modified>
  <cp:revision>13</cp:revision>
  <dc:subject/>
  <dc:title>Au Sujet de moi</dc:title>
</cp:coreProperties>
</file>